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7C8-A2EB-412B-AB7B-D85434BB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5BE-51AB-468A-9D3C-C0E9F254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01E2-1BC9-499D-A2A2-39D273AB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A6A-4B84-4BB8-8188-01C87945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87B-C3BB-452D-934A-91775B94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378-0F12-47DD-8001-0EAC6D03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AA7-5BAA-4DF4-8C60-B89C2401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7B3-E144-4B3C-854A-9DE99959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AB6-D085-49F1-A1B5-1C40EFA3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F972-F073-4DBA-86E8-629EA957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B4A-877C-4206-949C-73737225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8912-B4AA-4195-843B-F45EDBE0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F7DF-76E9-49CE-8471-5B8B6356E02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25:39Z</dcterms:modified>
  <cp:revision>125</cp:revision>
  <dc:subject/>
  <dc:title>Introduction to Compilers</dc:title>
</cp:coreProperties>
</file>